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breeze.wav" ContentType="audio/x-wav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0590-2B8A-4A02-9FD2-84C7487F0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1F01-AE4A-40E3-BBA0-7E282F56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C267-CA73-411A-81C6-DE74BF598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6269-815B-4AED-9BD3-1FA96A7FE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D4B70-7BBE-4860-911A-D941B3C46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BB280-BB72-4999-A7D2-7F1398EA7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B0F75-00EF-4E8E-A435-7E1D1765C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4485B-E1C5-4A1E-8E2E-F157098A4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89031-8E62-4A23-90D8-476AD7C1F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8B2A7-061C-4782-AD7A-3C2E54D30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211FE-A02A-4EDE-9FF8-8646D1D8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9FE4-1E09-401A-9900-E9E1F055F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4DC23-A0D0-4F26-A9A3-F99E9615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85ADB-577E-4991-815A-065D9215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57510-9434-41B5-8562-37ECAADD9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5DD6D-7425-4859-B800-65887C1AD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50880-D717-4D0C-97DB-E024C1B63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3562-22EA-4126-80BB-40AB1B497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6879-F51A-4A34-AC9F-8ED57457A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2B4A-AA8A-4E91-A631-45098A2C3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981A-9F41-4BF0-B282-A737520A8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FDC5-B609-4A87-94B0-BF0AF2DB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02FE-084B-4E17-A2D0-0FB13645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4F55-BC9C-408F-9363-D8285BEA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F8D6B-C46F-42F8-9584-80133284EDA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2ADA0-E124-4B5C-9006-665FBF3A682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Goudy Old Style"/>
              </a:rPr>
              <a:t>The Heimlich Maneuver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523880" y="3504960"/>
            <a:ext cx="6400800" cy="144756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oudy Old Style"/>
              </a:rPr>
              <a:t>By: Tribecca N. Trav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comb dir="vert"/>
    <p:sndAc>
      <p:stSnd>
        <p:snd r:embed="rId1" name="breez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438280" y="2057400"/>
            <a:ext cx="6400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This information is not intended to be a substitute for professional medical advic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A licensed physician should be consulted for diagnosis and treatment of all medical condi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666880" y="685800"/>
            <a:ext cx="60962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oudy Old Style"/>
              </a:rPr>
              <a:t>Important Notice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oudy Old Style"/>
              <a:ea typeface="Goudy Old Style"/>
            </a:endParaRPr>
          </a:p>
        </p:txBody>
      </p:sp>
    </p:spTree>
  </p:cSld>
  <p:transition spd="slow" advTm="4000">
    <p:dissolve/>
    <p:sndAc>
      <p:stSnd>
        <p:snd r:embed="rId1" name="breez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62120" y="2209680"/>
            <a:ext cx="7696080" cy="3018600"/>
          </a:xfrm>
          <a:prstGeom prst="rect">
            <a:avLst/>
          </a:pr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oudy Old Style"/>
              </a:rPr>
              <a:t>There’s never a warning before a person gets an object caught in their throat and starts cho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oudy Old Style"/>
              </a:rPr>
              <a:t>Fortunately, there are effective techniques to deal with this emergen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checker dir="vert"/>
    <p:sndAc>
      <p:stSnd>
        <p:snd r:embed="rId1" name="breez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362320" y="3200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king is the body’s way of trying to remove a foreign obj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895480" y="762120"/>
            <a:ext cx="51818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oudy Old Style"/>
              </a:rPr>
              <a:t>Choking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oudy Old Style"/>
              <a:ea typeface="Goudy Old Style"/>
            </a:endParaRPr>
          </a:p>
        </p:txBody>
      </p:sp>
    </p:spTree>
  </p:cSld>
  <p:transition spd="slow" advTm="4000">
    <p:random/>
    <p:sndAc>
      <p:stSnd>
        <p:snd r:embed="rId1" name="breez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2743200" y="19807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oudy Old Style"/>
              </a:rPr>
              <a:t>Eating (especially eating and laughing at the same time, eating too fast, and failing to chew food well enough.)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oudy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oudy Old Style"/>
              </a:rPr>
              <a:t>Alcohol and drug consumption (even a small amount affects awareness.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oudy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oudy Old Style"/>
              </a:rPr>
              <a:t>Trauma to the head and face (bleeding can cause chokin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oudy Old Style"/>
              </a:rPr>
              <a:t>Small objects swallowed by children (beads, toys)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oudy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895480" y="228600"/>
            <a:ext cx="5257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oudy Old Style"/>
              </a:rPr>
              <a:t>Causes of Choking 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oudy Old Style"/>
              <a:ea typeface="Goudy Old Style"/>
            </a:endParaRPr>
          </a:p>
        </p:txBody>
      </p:sp>
    </p:spTree>
  </p:cSld>
  <p:transition spd="slow" advTm="4000">
    <p:newsflash/>
    <p:sndAc>
      <p:stSnd>
        <p:snd r:embed="rId1" name="breez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438280" y="190512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oudy Old Style"/>
              </a:rPr>
              <a:t>Without oxygen the brain can begin to die within 4 to 6 minute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oudy Old Style"/>
              </a:rPr>
              <a:t>By learning the Heimlich Maneuver-a simple life-saving technique-you may literally save the life of a choking victi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200400" y="0"/>
            <a:ext cx="51814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oudy Old Style"/>
              </a:rPr>
              <a:t>Lack of Oxygen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oudy Old Style"/>
              <a:ea typeface="Goudy Old Style"/>
            </a:endParaRPr>
          </a:p>
        </p:txBody>
      </p:sp>
    </p:spTree>
  </p:cSld>
  <p:transition spd="slow" advTm="4000">
    <p:randomBar dir="horz"/>
    <p:sndAc>
      <p:stSnd>
        <p:snd r:embed="rId1" name="breez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438280" y="190512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oudy Old Style"/>
              </a:rPr>
              <a:t>The person is grabbing the throat with the hand (the universal sign for choking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oudy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oudy Old Style"/>
              </a:rPr>
              <a:t>You notice they are gagging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oudy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oudy Old Style"/>
              </a:rPr>
              <a:t>You hear a weak ineffective cough, noisy breathing, or high-pitched sound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oudy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oudy Old Style"/>
              </a:rPr>
              <a:t>The person is starting to look blu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oudy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362320" y="380880"/>
            <a:ext cx="63910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oudy Old Style"/>
              </a:rPr>
              <a:t>When Do I Use The Heimlich?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oudy Old Style"/>
              <a:ea typeface="Goudy Old Style"/>
            </a:endParaRPr>
          </a:p>
        </p:txBody>
      </p:sp>
    </p:spTree>
  </p:cSld>
  <p:transition spd="slow" advTm="4000">
    <p:circle/>
    <p:sndAc>
      <p:stSnd>
        <p:snd r:embed="rId1" name="breez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Heimlich Maneuver,CPR,First Aid,Senior Adult,Emergency Services and Rescue Occupation"/>
          <p:cNvPicPr/>
          <p:nvPr/>
        </p:nvPicPr>
        <p:blipFill>
          <a:blip r:embed="rId1"/>
          <a:stretch/>
        </p:blipFill>
        <p:spPr>
          <a:xfrm>
            <a:off x="0" y="2228760"/>
            <a:ext cx="3124080" cy="46292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rcRect l="-2394" t="2494" r="2696" b="2494"/>
          <a:stretch/>
        </p:blipFill>
        <p:spPr>
          <a:xfrm>
            <a:off x="6172200" y="3962520"/>
            <a:ext cx="2971800" cy="28954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Unconscious Heimlich"/>
          <p:cNvPicPr/>
          <p:nvPr/>
        </p:nvPicPr>
        <p:blipFill>
          <a:blip r:embed="rId3"/>
          <a:srcRect l="14637" t="23397" r="16319" b="9897"/>
          <a:stretch/>
        </p:blipFill>
        <p:spPr>
          <a:xfrm>
            <a:off x="3124080" y="4191120"/>
            <a:ext cx="3124440" cy="26668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057400" y="20574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The Heimlich Maneuver is the most effective way to remove something stuck in an adult’s or older child’s throat. (Note: another technique is used for an infant, small child, or when someone becomes unconscious.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It lifts the diaphragm and forces enough air from the lungs to remove the obstruction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743200" y="457200"/>
            <a:ext cx="6019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oudy Old Style"/>
              </a:rPr>
              <a:t>Heimlich Manuver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oudy Old Style"/>
              <a:ea typeface="Goudy Old Style"/>
            </a:endParaRPr>
          </a:p>
        </p:txBody>
      </p:sp>
    </p:spTree>
  </p:cSld>
  <p:transition spd="slow" advTm="1000">
    <p:split dir="in" orient="horz"/>
    <p:sndAc>
      <p:stSnd>
        <p:snd r:embed="rId4" name="breez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743200" y="380880"/>
            <a:ext cx="58672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oudy Old Style"/>
              </a:rPr>
              <a:t>How To Do The Heimlich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oudy Old Style"/>
              <a:ea typeface="Goudy Old Style"/>
            </a:endParaRPr>
          </a:p>
        </p:txBody>
      </p:sp>
      <p:pic>
        <p:nvPicPr>
          <p:cNvPr id="103" name="" descr="Heimlich Maneuver on Infant"/>
          <p:cNvPicPr/>
          <p:nvPr/>
        </p:nvPicPr>
        <p:blipFill>
          <a:blip r:embed="rId1"/>
          <a:srcRect l="2375" t="3339" r="2636" b="0"/>
          <a:stretch/>
        </p:blipFill>
        <p:spPr>
          <a:xfrm>
            <a:off x="2133720" y="2590920"/>
            <a:ext cx="6858000" cy="42670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362320" y="1600200"/>
            <a:ext cx="6400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oudy Old Style"/>
              </a:rPr>
              <a:t>Stand behind the choking person and wrap your arm around his or her wais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oudy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oudy Old Style"/>
              </a:rPr>
              <a:t>Place thumb side of the fist against middle of person’s abdomen just above the navel and well below the rib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oudy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oudy Old Style"/>
              </a:rPr>
              <a:t>Press your fist into the person’s abdomen with quick, upward thrust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oudy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oudy Old Style"/>
              </a:rPr>
              <a:t>Repeat abdominal thrusts until the object is coughed u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wheel spokes="8"/>
    <p:sndAc>
      <p:stSnd>
        <p:snd r:embed="rId2" name="breez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438280" y="190512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oudy Old Style"/>
              </a:rPr>
              <a:t>Following the expulsion of the object, keep the victim still and get medical help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Goudy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oudy Old Style"/>
              </a:rPr>
              <a:t>Complications can arise from the incident or from the measures that were tak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514600" y="457200"/>
            <a:ext cx="64008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oudy Old Style"/>
              </a:rPr>
              <a:t>Always Remember...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oudy Old Style"/>
              <a:ea typeface="Goudy Old Style"/>
            </a:endParaRPr>
          </a:p>
        </p:txBody>
      </p:sp>
    </p:spTree>
  </p:cSld>
  <p:transition spd="slow" advTm="4000">
    <p:strips dir="ru"/>
    <p:sndAc>
      <p:stSnd>
        <p:snd r:embed="rId1" name="breez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7T15:48:26Z</dcterms:created>
  <dc:creator>809277</dc:creator>
  <dc:description/>
  <dc:language>en-US</dc:language>
  <cp:lastModifiedBy>WAYNE GUICE</cp:lastModifiedBy>
  <dcterms:modified xsi:type="dcterms:W3CDTF">2008-11-10T02:38:36Z</dcterms:modified>
  <cp:revision>5</cp:revision>
  <dc:subject/>
  <dc:title>The Heimlich Maneuver </dc:title>
</cp:coreProperties>
</file>